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833-54CA-497F-86E0-F89D2785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land ist für ihr Bier bekan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land stellt viel Getreide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 Regionen reprasentieren weizen und zuckerbee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 Regionen reprasentieren kartoffeln, gerste, und rog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u Regionen reprasentieren  die Weinb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kel Regionen reprasentieren Gar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b Regionen reprasentieren Land fur Ku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mehr Rosa als diese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PR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hat viele Fe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de Region in Deutschland hat ein anderes F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andwirtschaft ist wichtig fur die Wirtschaft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hinen helfen mit der Arbeit in den Feld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Z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kann Wein wegen den Flusse produ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s Landwirtschaft macht die Wirtschaft star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hat Hugel und Berge, aber Florida nic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e viel von Deutschland ist Landwirtsch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of Germany’s land does agriculture take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nimmt mehr als die Halfte des Lan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e viele Betriebe sind Familienunternehm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w many farms are family busines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rundneunzig Prozent der Betriebe sind Familenunterneh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ie wird die Regierung der Landwirtschaft helf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governement help the agri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finanzielle Unterstutz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arum brauchen die Familien Untenehmen Unterstutzu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subsid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ige Flachen in Deutschalnd ist sch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hmal Kuhe essen zu viel Gr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D1B1-FFF0-4308-96D4-8B4A9002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ist wichtig nach Deutsch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e machen Ern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h sind auf das Aucker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FE9-AA1A-4CC7-97A1-F7E3D570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st die Landwirtschaft in Deutschland machte v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ier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sche Landwirtsch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rstwirtsch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in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7E1C-872C-4053-A054-BFD7E702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rste Landwirtschaftsprodu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l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hweinefle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indfle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flü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tre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artoff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r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oh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Zuckerrü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0E0-36F7-4ECF-B14C-790B22D8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 Rhine und Main sind im nordwestlichen Teil von Deutsch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9ED0-07AF-4661-A50E-6A5A2F9F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des Gebiet hat verschiedene Fe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ördliches Deutschland hat flache Lä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62F-1E6A-4B82-862D-99D44A08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Produckte werden in viele Lander exporti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üdliches und westliches Deutschland hat Weinber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A44-52C9-40D2-A3AC-A08916BA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kauft eine Menge Bana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verkauft eine Menge Kor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produziert eine Menge von Getre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hilft der Landwirtschaft in viele w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finanzielle Unterstutz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Geld fur Landwirtshaft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Geld wird verwendet, um benachteilig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5B2-EEC4-491F-8B3A-433CC5808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DBA-117A-4705-A43F-B6D639F9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D06-6ECE-4162-98BD-7797DD14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109-03C9-44C4-B43E-427669F0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4D3-EAEB-46B1-989B-3D6C678F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E5C-2BB8-4BB2-8E58-99480D0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9EF-C59C-442D-8626-DEA8D04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0E2-0F60-45D0-9BA7-A650E40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39C-9E8E-4CC7-A09D-7BA79AB9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1C0-8BE6-4538-8772-7D88D27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337-67E2-452F-A221-211EFF5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CD8-28C1-47E4-882F-D31ABC9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C1D-52F3-42D2-8A5A-6B9A01C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08B2-ED22-42C0-B9EC-A7BCDEFEC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griculture In Deutschl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helsea Go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Number: 001090-0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5280" y="990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ndwirtscha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ly produces about DM84 billion worth of go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s goods for around DM52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ver 80 percent of land for agriculture and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argest producer of milk, pork and rape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cond largest producer of cereals and potatoes, sugar beet and b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orld-renowned for its be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Map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ermany Location Map"/>
          <p:cNvPicPr/>
          <p:nvPr/>
        </p:nvPicPr>
        <p:blipFill>
          <a:blip r:embed="rId1"/>
          <a:stretch/>
        </p:blipFill>
        <p:spPr>
          <a:xfrm>
            <a:off x="2438280" y="609480"/>
            <a:ext cx="43563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griculture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ion of crops, livestock, or poultry by cultivating land, feeding, and bree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kes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tschland's Economy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tle St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iculture and Wine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ef Agricultural Produ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124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b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181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regions wine, fruits, and vegetables play an important 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Wine by the Rhine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rman Wine y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114733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Containing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s vary from region to reg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Germany (flat terrain) and eastern regions produce; cereals and sugar b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y terrain and mountainous land are used to produce; vegetables, milk, pork, or bee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grapesonthewine"/>
          <p:cNvPicPr/>
          <p:nvPr/>
        </p:nvPicPr>
        <p:blipFill>
          <a:blip r:embed="rId1"/>
          <a:stretch/>
        </p:blipFill>
        <p:spPr>
          <a:xfrm>
            <a:off x="6705720" y="1600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e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uit orchards and vegetable farms surround the large c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and western German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ver valle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long the Rhine and the Main, are covered with viney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 and sugar beets are produced in northern Ger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Germany is used for agriculture and fore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e Fact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Products are exported to many countr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 buys a quantity of banan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 produces and sells grain produ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al Interven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deral and state governments, in their turn, provided financial assistance for agricultural development, land consolidation, village renewal, and construction of country roa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unds were available for disadvantaged areas where agriculture was an important economic and social facto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38:57Z</dcterms:created>
  <dc:creator>SCSadmin</dc:creator>
  <dc:description/>
  <dc:language>en-US</dc:language>
  <cp:lastModifiedBy>SCSadmin</cp:lastModifiedBy>
  <dcterms:modified xsi:type="dcterms:W3CDTF">2012-03-19T14:00:56Z</dcterms:modified>
  <cp:revision>18</cp:revision>
  <dc:subject/>
  <dc:title>Agriculture In Deutschland </dc:title>
</cp:coreProperties>
</file>